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FFF0-A364-4464-B5F1-8E0DF8BD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752-4DB2-4C25-A9DC-121A3D56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55B-112D-43F2-8993-E57C8055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E23-7680-4F0D-8F2B-3598A483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D9A4-FC6A-4A34-8CF3-40FB0A33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0A3E-4923-43E8-B627-743867C8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C24D-52BB-42FC-9268-EBCAB49D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8708-C58F-46AA-81DD-831FB94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56A4-DC62-4E7D-9BD6-41F28A3E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6CAB-40A5-4A53-BFA4-A8BDEE8D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D7C8-DF3D-4445-8330-EA70470B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687-4F7D-4C90-9777-4BC6AFDA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4F64-B9C1-4EF4-8834-F18B492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7D40-D0F6-4925-9131-08F55E41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317A-4606-4B13-9B2C-C020AF4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093-D02F-47D7-A929-0BFD56E5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8002-651B-4C74-845B-C2B4F65C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20B-F383-4D53-BE2C-7E9FFCB5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E88-1CEF-4A93-9B34-D64690E3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CEB9-E016-4DAE-BB08-92CA82C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65F-065A-4DFB-B988-34FFFABA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6F0-1786-4627-A396-80DD7EDB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5821-D14F-45FB-8319-AE60879E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78A-78CC-42B7-AF57-549F072D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>
                      <a:gd name="textAreaLeft" fmla="*/ 0 w 474120"/>
                      <a:gd name="textAreaRight" fmla="*/ 474480 w 4741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720"/>
                      <a:gd name="textAreaBottom" fmla="*/ 163080 h 162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>
                      <a:gd name="textAreaLeft" fmla="*/ 0 w 634320"/>
                      <a:gd name="textAreaRight" fmla="*/ 634680 w 63432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>
                      <a:gd name="textAreaLeft" fmla="*/ 0 w 341280"/>
                      <a:gd name="textAreaRight" fmla="*/ 341640 w 34128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>
                      <a:gd name="textAreaLeft" fmla="*/ -360 w 881640"/>
                      <a:gd name="textAreaRight" fmla="*/ 881640 w 88164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>
                      <a:gd name="textAreaLeft" fmla="*/ -360 w 473400"/>
                      <a:gd name="textAreaRight" fmla="*/ 473400 w 47340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>
                      <a:gd name="textAreaLeft" fmla="*/ -360 w 929880"/>
                      <a:gd name="textAreaRight" fmla="*/ 929880 w 92988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>
                      <a:gd name="textAreaLeft" fmla="*/ 360 w 498240"/>
                      <a:gd name="textAreaRight" fmla="*/ 498960 w 4982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600"/>
                      <a:gd name="textAreaBottom" fmla="*/ 156960 h 156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1560"/>
                      <a:gd name="textAreaBottom" fmla="*/ 241920 h 24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200"/>
                      <a:gd name="textAreaBottom" fmla="*/ 169560 h 169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7680"/>
                      <a:gd name="textAreaBottom" fmla="*/ 248040 h 2476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>
                      <a:gd name="textAreaLeft" fmla="*/ 360 w 542160"/>
                      <a:gd name="textAreaRight" fmla="*/ 542880 w 542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>
                      <a:gd name="textAreaLeft" fmla="*/ 360 w 293760"/>
                      <a:gd name="textAreaRight" fmla="*/ 294480 w 2937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>
                      <a:gd name="textAreaLeft" fmla="*/ 0 w 336240"/>
                      <a:gd name="textAreaRight" fmla="*/ 336240 w 33624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>
                      <a:gd name="textAreaLeft" fmla="*/ 0 w 543960"/>
                      <a:gd name="textAreaRight" fmla="*/ 544320 w 54396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>
                      <a:gd name="textAreaLeft" fmla="*/ -360 w 887400"/>
                      <a:gd name="textAreaRight" fmla="*/ 887400 w 8874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>
                      <a:gd name="textAreaLeft" fmla="*/ 360 w 475920"/>
                      <a:gd name="textAreaRight" fmla="*/ 476640 w 47592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>
                      <a:gd name="textAreaLeft" fmla="*/ 360 w 820800"/>
                      <a:gd name="textAreaRight" fmla="*/ 821520 w 82080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>
                      <a:gd name="textAreaLeft" fmla="*/ -360 w 436680"/>
                      <a:gd name="textAreaRight" fmla="*/ 436680 w 43668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>
                      <a:gd name="textAreaLeft" fmla="*/ 360 w 420480"/>
                      <a:gd name="textAreaRight" fmla="*/ 421200 w 42048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>
                      <a:gd name="textAreaLeft" fmla="*/ 0 w 753480"/>
                      <a:gd name="textAreaRight" fmla="*/ 753840 w 75348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>
                      <a:gd name="textAreaLeft" fmla="*/ 0 w 406080"/>
                      <a:gd name="textAreaRight" fmla="*/ 406440 w 40608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>
                      <a:gd name="textAreaLeft" fmla="*/ 0 w 738000"/>
                      <a:gd name="textAreaRight" fmla="*/ 738360 w 73800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6080"/>
                  <a:gd name="textAreaBottom" fmla="*/ 1216440 h 12160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03A5-6875-4080-A30F-F8101712D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5160"/>
            <a:ext cx="6895800" cy="5452200"/>
            <a:chOff x="201132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5800"/>
              <a:ext cx="945720" cy="709560"/>
              <a:chOff x="3484080" y="9558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58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5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5160"/>
              <a:ext cx="6895800" cy="5452200"/>
              <a:chOff x="201132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5160"/>
                <a:ext cx="6890760" cy="5452200"/>
                <a:chOff x="2011320" y="24516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480"/>
                  <a:ext cx="3599280" cy="2650680"/>
                  <a:chOff x="3735720" y="126648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48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5160"/>
                  <a:ext cx="6890760" cy="5452200"/>
                  <a:chOff x="2011320" y="24516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3080"/>
                    <a:ext cx="2559960" cy="2740320"/>
                    <a:chOff x="5760360" y="2323080"/>
                    <a:chExt cx="255996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760"/>
                      <a:ext cx="2127600" cy="38556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7040"/>
                    <a:ext cx="3040200" cy="2530440"/>
                    <a:chOff x="5787360" y="2147040"/>
                    <a:chExt cx="304020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0400"/>
                      <a:ext cx="2235600" cy="42660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0960"/>
                      <a:ext cx="1200960" cy="67212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2440"/>
                    <a:ext cx="3097800" cy="1994400"/>
                    <a:chOff x="5774760" y="2062440"/>
                    <a:chExt cx="309780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8200"/>
                      <a:ext cx="2140560" cy="37476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760"/>
                        <a:gd name="textAreaBottom" fmla="*/ 375120 h 374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504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280"/>
                        <a:gd name="textAreaBottom" fmla="*/ 413640 h 413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8120"/>
                    <a:ext cx="2938680" cy="1002240"/>
                    <a:chOff x="5806080" y="1878120"/>
                    <a:chExt cx="293868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3680" cy="38448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1120"/>
                      <a:ext cx="1023120" cy="60300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3680"/>
                    <a:ext cx="2658960" cy="444960"/>
                    <a:chOff x="5851080" y="181368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9320"/>
                      <a:ext cx="1730880" cy="27144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1440"/>
                        <a:gd name="textAreaBottom" fmla="*/ 271800 h 271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200"/>
                      <a:ext cx="929520" cy="42192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1920"/>
                        <a:gd name="textAreaBottom" fmla="*/ 422280 h 42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4080"/>
                    <a:chOff x="5788440" y="130464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096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320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7080" cy="2742840"/>
                    <a:chOff x="2646000" y="2472120"/>
                    <a:chExt cx="2557080" cy="274284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320" y="3169440"/>
                      <a:ext cx="2126520" cy="38556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80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920"/>
                    <a:ext cx="3039120" cy="2531520"/>
                    <a:chOff x="2084760" y="2365920"/>
                    <a:chExt cx="303912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856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560"/>
                      <a:ext cx="1199880" cy="67284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040"/>
                    <a:ext cx="3096360" cy="1991880"/>
                    <a:chOff x="2040840" y="2282040"/>
                    <a:chExt cx="3096360" cy="19918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780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12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7000"/>
                    <a:ext cx="3133800" cy="1609920"/>
                    <a:chOff x="2011320" y="2187000"/>
                    <a:chExt cx="313380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624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400" y="2990880"/>
                      <a:ext cx="1110600" cy="6501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50160"/>
                        <a:gd name="textAreaBottom" fmla="*/ 650520 h 650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6280"/>
                    <a:ext cx="2937240" cy="1001160"/>
                    <a:chOff x="2167560" y="2096280"/>
                    <a:chExt cx="2937240" cy="10011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228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7840"/>
                      <a:ext cx="1023120" cy="60336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0760"/>
                    <a:ext cx="2658600" cy="447120"/>
                    <a:chOff x="2403720" y="20307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78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1920"/>
                      <a:ext cx="929520" cy="4240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4080"/>
                        <a:gd name="textAreaBottom" fmla="*/ 424440 h 42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0280"/>
                    <a:ext cx="2364120" cy="787320"/>
                    <a:chOff x="2760480" y="152028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020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8840"/>
                      <a:ext cx="816120" cy="4197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7320"/>
                    <a:ext cx="2323080" cy="1081440"/>
                    <a:chOff x="2887920" y="1237320"/>
                    <a:chExt cx="2323080" cy="10814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632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1240"/>
                      <a:ext cx="816120" cy="4143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9080"/>
                    <a:ext cx="2169720" cy="1508400"/>
                    <a:chOff x="3161520" y="829080"/>
                    <a:chExt cx="2169720" cy="15084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1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096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4160"/>
                    <a:ext cx="1987200" cy="1831680"/>
                    <a:chOff x="3437640" y="434160"/>
                    <a:chExt cx="1987200" cy="18316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0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4200"/>
                      <a:ext cx="828360" cy="41760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0480"/>
                    <a:ext cx="1461600" cy="1890000"/>
                    <a:chOff x="4026960" y="330480"/>
                    <a:chExt cx="146160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2160"/>
                      <a:ext cx="1358280" cy="264960"/>
                    </a:xfrm>
                    <a:custGeom>
                      <a:avLst/>
                      <a:gdLst>
                        <a:gd name="textAreaLeft" fmla="*/ 0 w 1358280"/>
                        <a:gd name="textAreaRight" fmla="*/ 1358280 w 1358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108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920" cy="1947240"/>
                    <a:chOff x="4448160" y="24516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148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280"/>
                      <a:ext cx="703080" cy="41544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960"/>
                    <a:ext cx="2318760" cy="1113480"/>
                    <a:chOff x="5661720" y="948960"/>
                    <a:chExt cx="2318760" cy="111348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100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72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3880"/>
                    <a:ext cx="2201760" cy="1451880"/>
                    <a:chOff x="5529600" y="623880"/>
                    <a:chExt cx="2201760" cy="145188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77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8560"/>
                      <a:ext cx="817560" cy="41796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4840"/>
                    <a:ext cx="1265760" cy="177480"/>
                  </a:xfrm>
                  <a:custGeom>
                    <a:avLst/>
                    <a:gdLst>
                      <a:gd name="textAreaLeft" fmla="*/ 0 w 1265760"/>
                      <a:gd name="textAreaRight" fmla="*/ 1265760 w 126576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6400"/>
                    <a:ext cx="681120" cy="282240"/>
                  </a:xfrm>
                  <a:custGeom>
                    <a:avLst/>
                    <a:gdLst>
                      <a:gd name="textAreaLeft" fmla="*/ 360 w 681120"/>
                      <a:gd name="textAreaRight" fmla="*/ 681840 w 68112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8200"/>
                    <a:ext cx="1194120" cy="1900440"/>
                    <a:chOff x="5355720" y="26820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5880"/>
                      <a:ext cx="1310040" cy="226800"/>
                    </a:xfrm>
                    <a:custGeom>
                      <a:avLst/>
                      <a:gdLst>
                        <a:gd name="textAreaLeft" fmla="*/ 0 w 1310040"/>
                        <a:gd name="textAreaRight" fmla="*/ 1310400 w 131004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200"/>
                      <a:ext cx="702720" cy="354960"/>
                    </a:xfrm>
                    <a:custGeom>
                      <a:avLst/>
                      <a:gdLst>
                        <a:gd name="textAreaLeft" fmla="*/ 0 w 702720"/>
                        <a:gd name="textAreaRight" fmla="*/ 703080 w 70272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600" y="384840"/>
                    <a:ext cx="1890360" cy="1796040"/>
                    <a:chOff x="5349600" y="384840"/>
                    <a:chExt cx="189036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160" y="1384200"/>
                      <a:ext cx="1425960" cy="33264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1400"/>
                      <a:ext cx="767160" cy="520200"/>
                    </a:xfrm>
                    <a:custGeom>
                      <a:avLst/>
                      <a:gdLst>
                        <a:gd name="textAreaLeft" fmla="*/ 0 w 767160"/>
                        <a:gd name="textAreaRight" fmla="*/ 767520 w 76716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6040"/>
                    <a:chOff x="5459040" y="290520"/>
                    <a:chExt cx="425160" cy="179604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3960"/>
                      <a:ext cx="1176480" cy="105840"/>
                    </a:xfrm>
                    <a:custGeom>
                      <a:avLst/>
                      <a:gdLst>
                        <a:gd name="textAreaLeft" fmla="*/ 0 w 1176480"/>
                        <a:gd name="textAreaRight" fmla="*/ 1176840 w 117648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1720"/>
                      <a:ext cx="631440" cy="166320"/>
                    </a:xfrm>
                    <a:custGeom>
                      <a:avLst/>
                      <a:gdLst>
                        <a:gd name="textAreaLeft" fmla="*/ 0 w 631440"/>
                        <a:gd name="textAreaRight" fmla="*/ 631800 w 63144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280"/>
                    <a:ext cx="2193480" cy="3003480"/>
                    <a:chOff x="3063240" y="2528280"/>
                    <a:chExt cx="21934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480" y="3313080"/>
                      <a:ext cx="2127960" cy="38304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240"/>
                    <a:ext cx="1480320" cy="2999880"/>
                    <a:chOff x="3791520" y="2649240"/>
                    <a:chExt cx="14803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5720" y="3439800"/>
                      <a:ext cx="1967400" cy="38340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3400"/>
                        <a:gd name="textAreaBottom" fmla="*/ 383760 h 383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372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699280"/>
                    <a:ext cx="875520" cy="2928240"/>
                    <a:chOff x="4507920" y="2699280"/>
                    <a:chExt cx="875520" cy="29282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5880"/>
                      <a:ext cx="1888560" cy="346320"/>
                    </a:xfrm>
                    <a:custGeom>
                      <a:avLst/>
                      <a:gdLst>
                        <a:gd name="textAreaLeft" fmla="*/ 360 w 1888560"/>
                        <a:gd name="textAreaRight" fmla="*/ 1889280 w 18885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680" cy="544320"/>
                    </a:xfrm>
                    <a:custGeom>
                      <a:avLst/>
                      <a:gdLst>
                        <a:gd name="textAreaLeft" fmla="*/ -360 w 1012680"/>
                        <a:gd name="textAreaRight" fmla="*/ 1012680 w 101268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1840"/>
                    <a:ext cx="2280600" cy="2952720"/>
                    <a:chOff x="5677920" y="24818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9360"/>
                      <a:ext cx="2126520" cy="38304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4520"/>
                    <a:ext cx="1756440" cy="3028320"/>
                    <a:chOff x="5646960" y="2594520"/>
                    <a:chExt cx="1756440" cy="30283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6240"/>
                      <a:ext cx="2032560" cy="368280"/>
                    </a:xfrm>
                    <a:custGeom>
                      <a:avLst/>
                      <a:gdLst>
                        <a:gd name="textAreaLeft" fmla="*/ 0 w 2032560"/>
                        <a:gd name="textAreaRight" fmla="*/ 2032920 w 203256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8880"/>
                      <a:ext cx="1089000" cy="575640"/>
                    </a:xfrm>
                    <a:custGeom>
                      <a:avLst/>
                      <a:gdLst>
                        <a:gd name="textAreaLeft" fmla="*/ 0 w 1089000"/>
                        <a:gd name="textAreaRight" fmla="*/ 1089360 w 108900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080"/>
                    <a:ext cx="1228680" cy="2987280"/>
                    <a:chOff x="5576400" y="2710080"/>
                    <a:chExt cx="1228680" cy="298728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560" y="3541680"/>
                      <a:ext cx="1972440" cy="303120"/>
                    </a:xfrm>
                    <a:custGeom>
                      <a:avLst/>
                      <a:gdLst>
                        <a:gd name="textAreaLeft" fmla="*/ 0 w 1972440"/>
                        <a:gd name="textAreaRight" fmla="*/ 1972800 w 19724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960" y="4881240"/>
                      <a:ext cx="1059480" cy="47592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1360"/>
                    <a:chOff x="5521320" y="2836800"/>
                    <a:chExt cx="696600" cy="27813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396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520" cy="474480"/>
                    </a:xfrm>
                    <a:custGeom>
                      <a:avLst/>
                      <a:gdLst>
                        <a:gd name="textAreaLeft" fmla="*/ 0 w 974520"/>
                        <a:gd name="textAreaRight" fmla="*/ 974880 w 97452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6120"/>
                    <a:ext cx="667440" cy="2716920"/>
                    <a:chOff x="4960800" y="2886120"/>
                    <a:chExt cx="66744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5280" y="3663360"/>
                      <a:ext cx="1772280" cy="231480"/>
                    </a:xfrm>
                    <a:custGeom>
                      <a:avLst/>
                      <a:gdLst>
                        <a:gd name="textAreaLeft" fmla="*/ 0 w 1772280"/>
                        <a:gd name="textAreaRight" fmla="*/ 1772640 w 177228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28760"/>
                      <a:ext cx="950760" cy="36468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0400"/>
                <a:ext cx="6732720" cy="4523040"/>
                <a:chOff x="2174400" y="680400"/>
                <a:chExt cx="673272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0400"/>
                  <a:ext cx="6732720" cy="4523040"/>
                  <a:chOff x="2174400" y="680400"/>
                  <a:chExt cx="673272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5000"/>
                    <a:ext cx="3166560" cy="252504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360 h 2525040"/>
                      <a:gd name="textAreaBottom" fmla="*/ 2525760 h 252504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080"/>
                    <a:ext cx="2486880" cy="293436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600"/>
                    <a:ext cx="1758240" cy="293580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000"/>
                    <a:ext cx="3133440" cy="293544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5440"/>
                      <a:gd name="textAreaBottom" fmla="*/ 2935800 h 293544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040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0680" cy="284292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2920"/>
                      <a:gd name="textAreaBottom" fmla="*/ 2843280 h 284292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400"/>
                    <a:ext cx="515160" cy="187956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560"/>
                      <a:gd name="textAreaBottom" fmla="*/ 1879920 h 187956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120"/>
                    <a:gd name="textAreaBottom" fmla="*/ 1032480 h 103212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5760"/>
              <a:ext cx="6411960" cy="4709160"/>
              <a:chOff x="2343960" y="72576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828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3080"/>
                <a:ext cx="2617200" cy="284184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840"/>
                  <a:gd name="textAreaBottom" fmla="*/ 2842200 h 284184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5520"/>
                <a:ext cx="1534320" cy="293436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1760"/>
                <a:ext cx="2930760" cy="293436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3960"/>
                <a:ext cx="469800" cy="293436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0280"/>
                <a:ext cx="1238040" cy="293436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360"/>
                  <a:gd name="textAreaBottom" fmla="*/ 2934720 h 293436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040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60640"/>
                <a:ext cx="543600" cy="103392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7680"/>
                <a:ext cx="1338480" cy="187956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1560"/>
                <a:ext cx="858240" cy="187956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560"/>
                  <a:gd name="textAreaBottom" fmla="*/ 1879920 h 1879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1200"/>
                <a:ext cx="1242000" cy="197352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3520"/>
                  <a:gd name="textAreaBottom" fmla="*/ 1973880 h 1973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328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5760"/>
                <a:ext cx="819000" cy="176868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7560"/>
                <a:ext cx="542880" cy="103248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480"/>
                  <a:gd name="textAreaBottom" fmla="*/ 1032840 h 1032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B03-ECA1-4B83-9B6F-42F6068C194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Executive Branch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ial Succ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something were to happen to the President of the United States, the Presidential line of succession i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ce-President of the United St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peaker of the Hou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President Pro Tempore of the Sen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ccession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 President Pro Tempore, the line of succession goes to the Presidential cabinet secretary in the order that their executive office was create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begins with the Secretary of State and would end with the Secretary of Homeland Securit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rticle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rticle 2 of the United States Constitution established the executive branch of government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President is the head of the executive branch of government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 Barack Obam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4" descr="obama_portrait_146px"/>
          <p:cNvPicPr/>
          <p:nvPr/>
        </p:nvPicPr>
        <p:blipFill>
          <a:blip r:embed="rId1"/>
          <a:stretch/>
        </p:blipFill>
        <p:spPr>
          <a:xfrm>
            <a:off x="3429000" y="2743200"/>
            <a:ext cx="2057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titutional Qualifica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nstitution outlines three qualifications to serve as the President of the United Sta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at least 35 years of a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a natural born citiz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a resident of the United States for at least 14 yea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Vice-Presid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onstitution specifies that the qualifications to serve as Vice-President are identical to those required to serve as Presid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ce President Joe Bid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4" name="Picture 10" descr="joe biden"/>
          <p:cNvPicPr/>
          <p:nvPr/>
        </p:nvPicPr>
        <p:blipFill>
          <a:blip r:embed="rId1"/>
          <a:stretch/>
        </p:blipFill>
        <p:spPr>
          <a:xfrm>
            <a:off x="3657600" y="1828800"/>
            <a:ext cx="1504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ial Term(s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Presidential term is 4 y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President is limited to serving two four year term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President is also limited to serving no more than 10 years as President of the United States. (2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mendment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esidential Ele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sident’s are elected every four years through indirect voting and through the meeting of a group of people that elect the President and Vice-President called the Electoral Colleg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ennessee has 11 electoral vo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16:57:31Z</dcterms:created>
  <dc:creator>Sys Admin</dc:creator>
  <dc:description/>
  <dc:language>en-US</dc:language>
  <cp:lastModifiedBy>SysAdmin</cp:lastModifiedBy>
  <dcterms:modified xsi:type="dcterms:W3CDTF">2010-10-08T12:32:22Z</dcterms:modified>
  <cp:revision>34</cp:revision>
  <dc:subject/>
  <dc:title>Unit 3</dc:title>
</cp:coreProperties>
</file>